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3EE0-0B21-41D2-A527-11CB50352E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s for Algern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Depar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dwell Jr. High Sch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 enough to be easily seen or notic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tangible evidence of Casey’s g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 or guess about something that has yet to be pro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dea that Sasquatch is real is only a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amage something or make it not as good as it should 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llness had impaired his ability to think and concentr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port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ho uses every opportunity to gain power, money, or unfair advanta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honest kid was an opportun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eling that you get from one of your five senses, especially the sense of to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ign of a heart attack is a tingling sensation in the left 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which represent facts or measure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s show that 50% of new businesses fail in their first ye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ing no intelligence or having no useful purpo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d’s vacuous expression showed he wasn’t very b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u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ly stupid or unreason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’s mullet was absu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ing to think deeply about your own thoughts, feelings, or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ighth grader sat alone and was very deep and introsp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r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rrect or most suitable relationship to it in size, amount, impor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s head was not proportional to his bod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npleasant woman who always argues and disagrees with peo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an old woman down the street was a shr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dr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llness which consists of a set of physical or mental probl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ckholm Syndrome is when a person who is kidnapped shows loyalty to the kidnap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ïvet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having much experience of how complicated lif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bumpkin showed his naiveté when he went to the big 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 of returning to an earlier condition that is worse or less develop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regressed when his little sister was bo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ing one’s interests or activities to one particular subjec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ctor’s specialization was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87CA-AB7D-41A5-B020-E4EA69AC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7A5-67AD-4C35-A1EB-F4B70A6D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B543-C6D3-44D6-ABA1-B9A28B90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5C91-CF97-4D46-9699-A6EAF675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5B9-FC9F-4537-9F7A-F675CA18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B095-B003-47DB-87CA-292E8214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0F01-958B-4DC6-8DBD-C98F9106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131A-E58B-484A-9A1E-20EBCEBF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842-9D9C-47B6-90AF-632BD313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CDB3-8431-44DB-913E-83118601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AEC-EB79-49B4-A437-B53AA442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BCB-573D-4449-B7C0-EC5C4FB6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12A1-9244-4A0B-B77E-8FA072D3D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ers for Algern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well Jr. High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3392220000[1]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g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enough to be easily seen or noti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tangible evidence of Casey’s gui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by0091l"/>
          <p:cNvPicPr/>
          <p:nvPr/>
        </p:nvPicPr>
        <p:blipFill>
          <a:blip r:embed="rId1"/>
          <a:stretch/>
        </p:blipFill>
        <p:spPr>
          <a:xfrm>
            <a:off x="2438280" y="3695760"/>
            <a:ext cx="3810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or guess about something that has yet to be pr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Sasquatch is real is only a hypo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essinWithSasquatch_2-full"/>
          <p:cNvPicPr/>
          <p:nvPr/>
        </p:nvPicPr>
        <p:blipFill>
          <a:blip r:embed="rId1"/>
          <a:stretch/>
        </p:blipFill>
        <p:spPr>
          <a:xfrm>
            <a:off x="3962520" y="4267080"/>
            <a:ext cx="15555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amage something or make it not as good as it should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llness had impaired his ability to think and concent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razyMan-01"/>
          <p:cNvPicPr/>
          <p:nvPr/>
        </p:nvPicPr>
        <p:blipFill>
          <a:blip r:embed="rId1"/>
          <a:stretch/>
        </p:blipFill>
        <p:spPr>
          <a:xfrm>
            <a:off x="5354640" y="990720"/>
            <a:ext cx="3398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who uses every opportunity to gain power, money, or unfair 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honest kid was an opportun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ksmn94l"/>
          <p:cNvPicPr/>
          <p:nvPr/>
        </p:nvPicPr>
        <p:blipFill>
          <a:blip r:embed="rId1"/>
          <a:srcRect l="0" t="12000" r="0" b="0"/>
          <a:stretch/>
        </p:blipFill>
        <p:spPr>
          <a:xfrm>
            <a:off x="5181480" y="1981080"/>
            <a:ext cx="37339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eling that you get from one of your five senses, especially the sense of tou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ign of a heart attack is a tingling sensation in the left a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eart-attack-picture"/>
          <p:cNvPicPr/>
          <p:nvPr/>
        </p:nvPicPr>
        <p:blipFill>
          <a:blip r:embed="rId1"/>
          <a:stretch/>
        </p:blipFill>
        <p:spPr>
          <a:xfrm>
            <a:off x="6591240" y="3962520"/>
            <a:ext cx="2552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numbers which represent facts or measu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show that 50% of new businesses fail in their first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going_out_of_business"/>
          <p:cNvPicPr/>
          <p:nvPr/>
        </p:nvPicPr>
        <p:blipFill>
          <a:blip r:embed="rId1"/>
          <a:stretch/>
        </p:blipFill>
        <p:spPr>
          <a:xfrm>
            <a:off x="2514600" y="4238640"/>
            <a:ext cx="37908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no intelligence or having no useful purp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d’s vacuous expression showed he wasn’t very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boy"/>
          <p:cNvPicPr/>
          <p:nvPr/>
        </p:nvPicPr>
        <p:blipFill>
          <a:blip r:embed="rId1"/>
          <a:stretch/>
        </p:blipFill>
        <p:spPr>
          <a:xfrm>
            <a:off x="6172200" y="1676520"/>
            <a:ext cx="26668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u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stupid or unreaso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’s mullet was absu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Super-Mullet"/>
          <p:cNvPicPr/>
          <p:nvPr/>
        </p:nvPicPr>
        <p:blipFill>
          <a:blip r:embed="rId1"/>
          <a:stretch/>
        </p:blipFill>
        <p:spPr>
          <a:xfrm>
            <a:off x="5715000" y="914400"/>
            <a:ext cx="31701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ing to think deeply about your own thoughts, feelings, or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ighth grader sat alone and was very deep and introsp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Emo_Kid_color_variant_02_by_sabisaotome"/>
          <p:cNvPicPr/>
          <p:nvPr/>
        </p:nvPicPr>
        <p:blipFill>
          <a:blip r:embed="rId1"/>
          <a:stretch/>
        </p:blipFill>
        <p:spPr>
          <a:xfrm>
            <a:off x="3733920" y="4200480"/>
            <a:ext cx="1998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orrect or most suitable relationship to it in size, amount, impor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s head was not proportional to his bo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marine-vignette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91320" y="2209680"/>
            <a:ext cx="3000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pleasant woman who always argues and disagrees with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old woman down the street was a sh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impsons_CrazyCatLady"/>
          <p:cNvPicPr/>
          <p:nvPr/>
        </p:nvPicPr>
        <p:blipFill>
          <a:blip r:embed="rId1"/>
          <a:stretch/>
        </p:blipFill>
        <p:spPr>
          <a:xfrm>
            <a:off x="3352680" y="3886200"/>
            <a:ext cx="236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llness which consists of a set of physical or mental 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holm Syndrome is when a person who is kidnapped shows loyalty to the kidnap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MCj04280670000[1]"/>
          <p:cNvPicPr/>
          <p:nvPr/>
        </p:nvPicPr>
        <p:blipFill>
          <a:blip r:embed="rId1"/>
          <a:stretch/>
        </p:blipFill>
        <p:spPr>
          <a:xfrm>
            <a:off x="3581280" y="4495680"/>
            <a:ext cx="1940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ïve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having much experience of how complicated lif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try bumpkin showed his naiveté when he went to the big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fool"/>
          <p:cNvPicPr/>
          <p:nvPr/>
        </p:nvPicPr>
        <p:blipFill>
          <a:blip r:embed="rId1"/>
          <a:stretch/>
        </p:blipFill>
        <p:spPr>
          <a:xfrm>
            <a:off x="6010200" y="1066680"/>
            <a:ext cx="31338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 of returning to an earlier condition that is worse or less develop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 regressed when his little sist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thumbs2"/>
          <p:cNvPicPr/>
          <p:nvPr/>
        </p:nvPicPr>
        <p:blipFill>
          <a:blip r:embed="rId1"/>
          <a:stretch/>
        </p:blipFill>
        <p:spPr>
          <a:xfrm>
            <a:off x="6095880" y="3962520"/>
            <a:ext cx="2497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ing one’s interests or activities to one particular su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ctor’s specialization was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doctor"/>
          <p:cNvPicPr/>
          <p:nvPr/>
        </p:nvPicPr>
        <p:blipFill>
          <a:blip r:embed="rId1"/>
          <a:stretch/>
        </p:blipFill>
        <p:spPr>
          <a:xfrm>
            <a:off x="2438280" y="4295880"/>
            <a:ext cx="3810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1:36:19Z</dcterms:created>
  <dc:creator>Shannon</dc:creator>
  <dc:description/>
  <dc:language>en-US</dc:language>
  <cp:lastModifiedBy>RomaK</cp:lastModifiedBy>
  <dcterms:modified xsi:type="dcterms:W3CDTF">2015-09-02T09:43:10Z</dcterms:modified>
  <cp:revision>13</cp:revision>
  <dc:subject/>
  <dc:title>Flowers for Algernon </dc:title>
</cp:coreProperties>
</file>